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B7C5FD2-CD83-4ADA-9291-057E526996D8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грамне забезпечення математичного призначення умовно поділяють на програмне забезпечення навчально-дослідницького та науково-дослідницького призначенн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3D62-C50F-4127-A32F-95F1188C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6350-9516-495E-9169-382CFEDB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9236-C028-449B-95CA-DBFDCE5D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64DE-49BC-41C5-B9B6-079004ED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E9A9-923B-4DB7-B266-375C4B36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79C0-36E7-4C02-B9D4-CEE69890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49E6-85A8-4E63-BF33-65DC03D2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D23C-079F-4E25-B7D4-106FC98F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78F0-53E1-4CD0-B34C-69658087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122400"/>
            <a:ext cx="6934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7861-8FAD-4478-ABD6-6019C9C1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49B8-8DC1-4CF5-9497-DA854358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89B7-9919-4025-8A06-64EF48A7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EEA8-F979-4496-AD8E-3F504F3C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0466-751C-4F45-9E91-CDE5F134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97C0-6DC9-49C4-8042-9670A552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5E13-9049-4D15-BE53-055ED18B4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B103-8661-43A9-A451-83188CA6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4034-6997-44DA-894F-2D747BAD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4177-FDA8-49AF-BB60-B3A24FEF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B496-57E3-4316-8F99-3002A8B6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122400"/>
            <a:ext cx="6934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1688-2798-411B-B523-088C0041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3CCD-3B5E-4B50-B078-83F32AF3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C2E0-C9BE-466C-9235-51924F78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77D0-391C-4778-A071-CE6176DD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6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60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3049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B52F-8877-4D48-BF15-57E9B9193E0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7A54-604F-408F-A2A1-8A0D22AFA3C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83571" t="60561" r="0" b="15199"/>
          <a:stretch/>
        </p:blipFill>
        <p:spPr>
          <a:xfrm>
            <a:off x="7594560" y="30240"/>
            <a:ext cx="1204920" cy="1112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15199" t="67133" r="60561" b="16439"/>
          <a:stretch/>
        </p:blipFill>
        <p:spPr>
          <a:xfrm>
            <a:off x="7620120" y="2224080"/>
            <a:ext cx="1112760" cy="12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50743" t="60561" r="32877" b="15199"/>
          <a:stretch/>
        </p:blipFill>
        <p:spPr>
          <a:xfrm>
            <a:off x="7620120" y="5638680"/>
            <a:ext cx="1201680" cy="1105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rcRect l="34305" t="60561" r="49267" b="15199"/>
          <a:stretch/>
        </p:blipFill>
        <p:spPr>
          <a:xfrm>
            <a:off x="7620120" y="3352680"/>
            <a:ext cx="1204920" cy="1113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rcRect l="17866" t="60561" r="65705" b="15199"/>
          <a:stretch/>
        </p:blipFill>
        <p:spPr>
          <a:xfrm>
            <a:off x="7620120" y="1143000"/>
            <a:ext cx="1204920" cy="1112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rcRect l="15199" t="1038" r="60561" b="82794"/>
          <a:stretch/>
        </p:blipFill>
        <p:spPr>
          <a:xfrm>
            <a:off x="7620120" y="4452840"/>
            <a:ext cx="1112760" cy="1185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13716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0066"/>
                </a:solidFill>
                <a:latin typeface="Arial"/>
              </a:rPr>
              <a:t>Шокалюк Світлана Вікторівна</a:t>
            </a:r>
            <a:br>
              <a:rPr sz="2000"/>
            </a:br>
            <a:br>
              <a:rPr sz="2000"/>
            </a:b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Методичні засади комп’ютеризації</a:t>
            </a:r>
            <a:br>
              <a:rPr sz="2400"/>
            </a:b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самостійної роботи старшокласників</a:t>
            </a:r>
            <a:br>
              <a:rPr sz="2400"/>
            </a:b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у процесі вивчення</a:t>
            </a:r>
            <a:br>
              <a:rPr sz="2400"/>
            </a:b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програмного забезпечення</a:t>
            </a:r>
            <a:br>
              <a:rPr sz="2400"/>
            </a:b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математичного призначення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0066"/>
                </a:solidFill>
                <a:latin typeface="Arial"/>
              </a:rPr>
              <a:t>Національний педагогічний університет ім. М.П. Драгома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0066"/>
                </a:solidFill>
                <a:latin typeface="Arial"/>
              </a:rPr>
              <a:t>Інститут і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34200" y="4419720"/>
            <a:ext cx="590076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0066"/>
                </a:solidFill>
                <a:latin typeface="Arial"/>
              </a:rPr>
              <a:t>13.00.02 – теорія і методика навчання (інформатика)</a:t>
            </a:r>
            <a:br>
              <a:rPr sz="1600"/>
            </a:br>
            <a:br>
              <a:rPr sz="1600"/>
            </a:br>
            <a:r>
              <a:rPr b="0" lang="uk-UA" sz="1600" spc="-1" strike="noStrike">
                <a:solidFill>
                  <a:srgbClr val="330066"/>
                </a:solidFill>
                <a:latin typeface="Arial"/>
              </a:rPr>
              <a:t>Дисертація на здобуття наукового ступеня</a:t>
            </a:r>
            <a:br>
              <a:rPr sz="1600"/>
            </a:br>
            <a:r>
              <a:rPr b="0" lang="uk-UA" sz="1600" spc="-1" strike="noStrike">
                <a:solidFill>
                  <a:srgbClr val="330066"/>
                </a:solidFill>
                <a:latin typeface="Arial"/>
              </a:rPr>
              <a:t>кандидата педагогічних наук</a:t>
            </a:r>
            <a:br>
              <a:rPr sz="1600"/>
            </a:br>
            <a:br>
              <a:rPr sz="1600"/>
            </a:br>
            <a:r>
              <a:rPr b="1" lang="uk-UA" sz="1600" spc="-1" strike="noStrike">
                <a:solidFill>
                  <a:srgbClr val="330066"/>
                </a:solidFill>
                <a:latin typeface="Arial"/>
              </a:rPr>
              <a:t>Науковий керівник</a:t>
            </a:r>
            <a:r>
              <a:rPr b="0" lang="uk-UA" sz="1600" spc="-1" strike="noStrike">
                <a:solidFill>
                  <a:srgbClr val="330066"/>
                </a:solidFill>
                <a:latin typeface="Arial"/>
              </a:rPr>
              <a:t>: кандидат педагогічних наук, доцент</a:t>
            </a:r>
            <a:br>
              <a:rPr sz="1600"/>
            </a:br>
            <a:r>
              <a:rPr b="0" lang="uk-UA" sz="1600" spc="-1" strike="noStrike">
                <a:solidFill>
                  <a:srgbClr val="330066"/>
                </a:solidFill>
                <a:latin typeface="Arial"/>
              </a:rPr>
              <a:t>Семеріков Сергій Олексій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0066"/>
                </a:solidFill>
                <a:latin typeface="Arial"/>
              </a:rPr>
              <a:t>Черкаси -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648320" y="28195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3526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228600"/>
            <a:ext cx="2743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засіб навч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uk-UA" sz="1400" spc="-1" strike="noStrike">
                <a:solidFill>
                  <a:srgbClr val="000000"/>
                </a:solidFill>
                <a:latin typeface="Arial"/>
              </a:rPr>
              <a:t>П.І. Підкасистий та ін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3962520"/>
            <a:ext cx="495288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особливий вид навчально-пізнавальної діяль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ака робота учня, що виконується без безпосередньої участі вчителя, але за його завданням у спеціально відведений для цього час; при цьому учні свідомо прагнуть досягти поставленої в завданні мети і виражають в тій або іншій формі результати своїх дій (розумових або фізичних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Б.П. Єсип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72200" y="2286000"/>
            <a:ext cx="26668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метод навч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uk-UA" sz="1400" spc="-1" strike="noStrike">
                <a:solidFill>
                  <a:srgbClr val="000000"/>
                </a:solidFill>
                <a:latin typeface="Arial"/>
              </a:rPr>
              <a:t>Ю.К. Бабанськ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Arial"/>
              </a:rPr>
              <a:t>І.Я. Лернер, А.В. Усова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а ін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133360" y="1599840"/>
            <a:ext cx="16002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429000" y="1371240"/>
            <a:ext cx="29718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2209680"/>
            <a:ext cx="3200400" cy="1143000"/>
          </a:xfrm>
          <a:prstGeom prst="rect">
            <a:avLst/>
          </a:prstGeom>
          <a:solidFill>
            <a:srgbClr val="d8d8e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амостійна ро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533520"/>
            <a:ext cx="27432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форма організації навчального проце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uk-UA" sz="1400" spc="-1" strike="noStrike">
                <a:solidFill>
                  <a:srgbClr val="000000"/>
                </a:solidFill>
                <a:latin typeface="Arial"/>
              </a:rPr>
              <a:t>О.Г. Мороз та ін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FFA1-5468-43AC-96C6-7392EFE407B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 flipH="1">
            <a:off x="4495320" y="990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572000" y="914400"/>
            <a:ext cx="137160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572000" y="914400"/>
            <a:ext cx="137160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2590920"/>
            <a:ext cx="43178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МЕТОД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бота з навчальними ресурсами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 друкованому чи цифровому форма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в’язування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постереж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вчальний експери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нструювання й моделю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вчальне проекту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1981080"/>
            <a:ext cx="312444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ВИ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за часом проведення у навчальному процес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 урок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 позаурочний ч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за проявом у формах навчанн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 підготовка до уроків, контрольних робі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іспит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конання практичних завда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писання реферат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ідготовка до олімпі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конання творчих робі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за ступенем самостійності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 зразком (репродуктивн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аріати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еконструкти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вор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5029200"/>
            <a:ext cx="43178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ЗАСОБ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дидактичні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ідручники, посібники та і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інструментальні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нформаційно-комунікаційні технології навч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304920"/>
            <a:ext cx="3809880" cy="1523880"/>
          </a:xfrm>
          <a:prstGeom prst="rect">
            <a:avLst/>
          </a:prstGeom>
          <a:solidFill>
            <a:srgbClr val="d8d8e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иди самостійної роботи учнів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а структурні компоненти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етодики її організа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304920"/>
            <a:ext cx="431784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ОРГАНІЗАЦІЙНІ ФОР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омашня навчальна роб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емінари та практику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едметні гуртки й факультати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урси за вибором (елективні курс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едметні олімпіади та конкур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E537-E21F-4E45-8C32-23AFB2F8E06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258840"/>
            <a:ext cx="69343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0066"/>
                </a:solidFill>
                <a:latin typeface="Arial"/>
              </a:rPr>
              <a:t>Інноваційні засоби комп'ютеризації самостійної роботи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600200"/>
            <a:ext cx="8153280" cy="68580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Мережні інформаційно-комунікаційні технологі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666880"/>
            <a:ext cx="30481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ережні технолог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38680" y="2666880"/>
            <a:ext cx="2590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ехнології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ережного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авч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038480"/>
            <a:ext cx="1905120" cy="76212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Технології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електронного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навч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4038480"/>
            <a:ext cx="1904760" cy="76212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Технології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истанційного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навч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86600" y="4038480"/>
            <a:ext cx="1905120" cy="76212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Технології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мобільного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навч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286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2438280"/>
            <a:ext cx="4724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962160" y="3809880"/>
            <a:ext cx="28954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095520" y="3809880"/>
            <a:ext cx="7621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0" y="3809880"/>
            <a:ext cx="11430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4800600"/>
            <a:ext cx="190512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Програмно-апаратні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засоби:</a:t>
            </a:r>
            <a:br>
              <a:rPr sz="1300"/>
            </a:b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ПК, мережн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з'єднанн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Дидактичні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засоби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навчальні ресурс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мережі, електронн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підручни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4800600"/>
            <a:ext cx="190476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рограмно-апаратн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засоби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uk-UA" sz="1300" spc="-1" strike="noStrike">
                <a:solidFill>
                  <a:srgbClr val="000000"/>
                </a:solidFill>
                <a:latin typeface="Arial"/>
              </a:rPr>
              <a:t>СД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Дидактичні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засоби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+ дистанційні курс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6600" y="4800600"/>
            <a:ext cx="190512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рограмно-апаратн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засоби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Нетбуки та інші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мобільні пристро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Дидактичні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Arial"/>
              </a:rPr>
              <a:t>засоби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+ дистанційні курс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з мобільним доступ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371600" y="38095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4038480"/>
            <a:ext cx="22860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електронна пош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ошукові систе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тематичні катало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світні порт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лог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та і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5486400"/>
            <a:ext cx="685800" cy="152280"/>
          </a:xfrm>
          <a:custGeom>
            <a:avLst/>
            <a:gdLst>
              <a:gd name="textAreaLeft" fmla="*/ 106920 w 685800"/>
              <a:gd name="textAreaRight" fmla="*/ 600120 w 685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3048120"/>
            <a:ext cx="2361960" cy="457200"/>
          </a:xfrm>
          <a:custGeom>
            <a:avLst/>
            <a:gdLst>
              <a:gd name="textAreaLeft" fmla="*/ 369000 w 2361960"/>
              <a:gd name="textAreaRight" fmla="*/ 2066760 w 23619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05720" y="5562720"/>
            <a:ext cx="685800" cy="152280"/>
          </a:xfrm>
          <a:custGeom>
            <a:avLst/>
            <a:gdLst>
              <a:gd name="textAreaLeft" fmla="*/ 106920 w 685800"/>
              <a:gd name="textAreaRight" fmla="*/ 600120 w 685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6292-E5C1-4C76-9AAF-3DA1B40BF41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69343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0066"/>
                </a:solidFill>
                <a:latin typeface="Arial"/>
              </a:rPr>
              <a:t>Особливості дистанційного навчання школярів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истанційне навчання є додатковим до традиційного класно-урочного навч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о вибору навчальної платформи дистанційного навчання школярів ставлять такі вимог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наявність інтуїтивного інтерфейсу, довідки та документації рідною мово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зручність управління змістом і спілкуванням з користувач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можливість розширення сукупності використовуваних компонентів відповідно до зростаючих потреб та умінь вчителя й учн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підтримка різних форм комунікації та групових форм навчання, взаємного оцінювання та самоуправлі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наявність інструментів, що служать для підтримки складових елементів процесу навчання в середній школ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ри розробці шкільного дистанційного курсу необхідно забезпечи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використання різноманітних складових елементів системи дистанційного навч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оформлення теоретичного матеріалу у гіпертекстовому та мультимедійному форма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наявність списку рекомендованої додаткової друкованої літератури та точних гіперпосила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включення до навчального матеріалу всіх додаткових питань, які можуть виникнути в учнів у процесі навч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оцінювання кожної вивченої теми окре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C6DC-B5A5-442C-B8AD-BE83D146491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457200" y="495360"/>
            <a:ext cx="8458200" cy="6134040"/>
            <a:chOff x="457200" y="495360"/>
            <a:chExt cx="8458200" cy="6134040"/>
          </a:xfrm>
        </p:grpSpPr>
        <p:sp>
          <p:nvSpPr>
            <p:cNvPr id="158" name=""/>
            <p:cNvSpPr/>
            <p:nvPr/>
          </p:nvSpPr>
          <p:spPr>
            <a:xfrm>
              <a:off x="5006880" y="6245280"/>
              <a:ext cx="2462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49240" y="3124080"/>
              <a:ext cx="2444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49240" y="3962520"/>
              <a:ext cx="244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49240" y="4800600"/>
              <a:ext cx="2444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98960" y="3048120"/>
              <a:ext cx="2462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98960" y="4114800"/>
              <a:ext cx="2462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98960" y="5254560"/>
              <a:ext cx="2462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9240" y="5483160"/>
              <a:ext cx="2444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98960" y="2438280"/>
              <a:ext cx="1800" cy="38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97160" y="495360"/>
              <a:ext cx="6578280" cy="799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330066"/>
                  </a:solidFill>
                  <a:latin typeface="Arial"/>
                </a:rPr>
                <a:t>Програмне забезпечен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330066"/>
                  </a:solidFill>
                  <a:latin typeface="Arial"/>
                </a:rPr>
                <a:t>математичного призначен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94080" y="1600200"/>
              <a:ext cx="43844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78520" y="1585800"/>
              <a:ext cx="180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94080" y="1585800"/>
              <a:ext cx="14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86480" y="1314360"/>
              <a:ext cx="144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43440" y="1905120"/>
              <a:ext cx="4071960" cy="563400"/>
            </a:xfrm>
            <a:prstGeom prst="rect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200" spc="-1" strike="noStrike">
                  <a:solidFill>
                    <a:srgbClr val="000000"/>
                  </a:solidFill>
                  <a:latin typeface="Arial"/>
                </a:rPr>
                <a:t>науково</a:t>
              </a:r>
              <a:r>
                <a:rPr b="1" lang="uk-UA" sz="2200" spc="-1" strike="noStrike">
                  <a:solidFill>
                    <a:srgbClr val="000000"/>
                  </a:solidFill>
                  <a:latin typeface="Arial"/>
                </a:rPr>
                <a:t>-дослідницьк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49240" y="2438280"/>
              <a:ext cx="180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1905120"/>
              <a:ext cx="4071960" cy="563400"/>
            </a:xfrm>
            <a:prstGeom prst="rect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200" spc="-1" strike="noStrike">
                  <a:solidFill>
                    <a:srgbClr val="000000"/>
                  </a:solidFill>
                  <a:latin typeface="Arial"/>
                </a:rPr>
                <a:t>навчально</a:t>
              </a:r>
              <a:r>
                <a:rPr b="1" lang="uk-UA" sz="2200" spc="-1" strike="noStrike">
                  <a:solidFill>
                    <a:srgbClr val="000000"/>
                  </a:solidFill>
                  <a:latin typeface="Arial"/>
                </a:rPr>
                <a:t>-дослідницьк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84320" y="3657600"/>
              <a:ext cx="33670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система динамічної геометрії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(С.А. Раков, К.О. Осенков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84320" y="2819520"/>
              <a:ext cx="33670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програмний комплекс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(М.І. Жалдак, Ю.В. Горошко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84320" y="4495680"/>
              <a:ext cx="336708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eb-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версії систем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bri, Geogeb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34040" y="2590920"/>
              <a:ext cx="368136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спеціалізовані математичні паке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uk-UA" sz="15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uk-UA" sz="1500" spc="-1" strike="noStrike">
                  <a:solidFill>
                    <a:srgbClr val="000000"/>
                  </a:solidFill>
                  <a:latin typeface="Arial"/>
                </a:rPr>
                <a:t>Macaulay</a:t>
              </a: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uk-UA" sz="1500" spc="-1" strike="noStrike">
                  <a:solidFill>
                    <a:srgbClr val="000000"/>
                  </a:solidFill>
                  <a:latin typeface="Arial"/>
                </a:rPr>
                <a:t>Singular</a:t>
              </a: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 та ін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34040" y="3686040"/>
              <a:ext cx="3681360" cy="80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програмні засоб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візуалізації математичних дани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uk-UA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nuPlot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JMol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LaTeX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 та ін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34040" y="4829040"/>
              <a:ext cx="3681360" cy="80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системи геометричного моделю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uk-UA" sz="1600" spc="-1" strike="noStrike">
                  <a:solidFill>
                    <a:srgbClr val="000000"/>
                  </a:solidFill>
                  <a:latin typeface="Arial"/>
                </a:rPr>
                <a:t>3D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uk-UA" sz="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Max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NSYS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 та ін.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41960" y="5819760"/>
              <a:ext cx="3673440" cy="80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системи комп’ютерної математ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uk-UA" sz="1500" spc="-1" strike="noStrike">
                  <a:solidFill>
                    <a:srgbClr val="000000"/>
                  </a:solidFill>
                  <a:latin typeface="Arial"/>
                </a:rPr>
                <a:t>Derive</a:t>
              </a: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uk-UA" sz="1500" spc="-1" strike="noStrike">
                  <a:solidFill>
                    <a:srgbClr val="000000"/>
                  </a:solidFill>
                  <a:latin typeface="Arial"/>
                </a:rPr>
                <a:t>MathCAD</a:t>
              </a:r>
              <a:r>
                <a:rPr b="0" lang="uk-UA" sz="18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uk-UA" sz="1500" spc="-1" strike="noStrike">
                  <a:solidFill>
                    <a:srgbClr val="000000"/>
                  </a:solidFill>
                  <a:latin typeface="Arial"/>
                </a:rPr>
                <a:t>Maple</a:t>
              </a: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uk-UA" sz="1500" spc="-1" strike="noStrike">
                  <a:solidFill>
                    <a:srgbClr val="000000"/>
                  </a:solidFill>
                  <a:latin typeface="Arial"/>
                </a:rPr>
                <a:t>Matlab</a:t>
              </a: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Arial"/>
                </a:rPr>
                <a:t>Mathematica</a:t>
              </a: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uk-UA" sz="1500" spc="-1" strike="noStrike">
                  <a:solidFill>
                    <a:srgbClr val="000000"/>
                  </a:solidFill>
                  <a:latin typeface="Arial"/>
                </a:rPr>
                <a:t>Maxima</a:t>
              </a: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uk-UA" sz="1500" spc="-1" strike="noStrike">
                  <a:solidFill>
                    <a:srgbClr val="000000"/>
                  </a:solidFill>
                  <a:latin typeface="Arial"/>
                </a:rPr>
                <a:t>SAGE</a:t>
              </a:r>
              <a:r>
                <a:rPr b="0" lang="uk-UA" sz="1500" spc="-1" strike="noStrike">
                  <a:solidFill>
                    <a:srgbClr val="000000"/>
                  </a:solidFill>
                  <a:latin typeface="Arial"/>
                </a:rPr>
                <a:t> та ін.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4320" y="5257800"/>
              <a:ext cx="33670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інш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4519-9525-44BB-873B-504A943315E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Інформаційні технології</a:t>
            </a:r>
            <a:br>
              <a:rPr sz="2400"/>
            </a:b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математичного призначення</a:t>
            </a:r>
            <a:br>
              <a:rPr sz="2400"/>
            </a:b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у шкільному курсі інформатики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857240"/>
          <a:ext cx="8229600" cy="4419720"/>
        </p:xfrm>
        <a:graphic>
          <a:graphicData uri="http://schemas.openxmlformats.org/drawingml/2006/table">
            <a:tbl>
              <a:tblPr/>
              <a:tblGrid>
                <a:gridCol w="5105520"/>
                <a:gridCol w="3124080"/>
              </a:tblGrid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 розділу шкільного курсу інформати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ількість навчальних годин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ладне програмне забезпечення загального призначення” (1996 р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(10 клас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uk-UA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кладне програмне забезпечення навчального призначення” (2002 р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(10 клас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+ 2 (10 та 11 класи відповідно для фізико-математичного та технологічного профілів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0066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ладне програмне забезпечення навчального призначення” (рівень стандарту, 2008 р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(10 клас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рамні засоби для математичних обчислень” (академічний рівень, 2008 р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(11 клас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3995-766C-4367-9B5D-738AC34CDCF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 flipH="1">
            <a:off x="1295280" y="3200400"/>
            <a:ext cx="198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172200" y="2895120"/>
            <a:ext cx="1676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34320" y="44197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657600"/>
            <a:ext cx="2438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380880"/>
            <a:ext cx="27432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Зміс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ограма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истанційного факультатив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320" y="3505320"/>
            <a:ext cx="27432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Організаційні фор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истанційний факультати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62720" y="3886200"/>
            <a:ext cx="274320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Засоб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53080" y="1828800"/>
            <a:ext cx="2362320" cy="1676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Метод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бота з навчальними ресурсами у С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в’язування задач у середовищі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вчальне проекту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2133720" y="190476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572000" y="1523880"/>
            <a:ext cx="13716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2514600"/>
            <a:ext cx="3200400" cy="1219320"/>
          </a:xfrm>
          <a:prstGeom prst="rect">
            <a:avLst/>
          </a:prstGeom>
          <a:solidFill>
            <a:srgbClr val="d8d8e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Методика організації самостійної роботи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 опанування програмного забезпечення математичного признач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304920"/>
            <a:ext cx="2743200" cy="2057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Ме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оглиблене вивчення розділу “Прикладне програмне забезпечення навчального призначення” шкільного курсу інформатики засобами діяльнісного середовища для алгебраїчних та геометричних досліджень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133360" y="4419720"/>
            <a:ext cx="47242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181120" y="4419720"/>
            <a:ext cx="17528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5029200"/>
            <a:ext cx="25146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Інструментальні засоб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ДН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O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СКМ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9400" y="4724280"/>
            <a:ext cx="2362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Методичні засоб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нструктивно-методичні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атеріа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ритерії оціню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5029200"/>
            <a:ext cx="312408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идактичні засоб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вчальний посіб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нспекти дистанційних урок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вдання для практичного викон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ідеододат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естові завд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C61D-E618-463E-BBB9-306E44F3C74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2280" y="51814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ежим доступу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cc.ninehub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ривалість навча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тижні  =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тижнів (10 клас, 2 семестр) +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тижнів (11 клас, 1 семест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05920" y="61722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8411" y="7493"/>
                </a:moveTo>
                <a:lnTo>
                  <a:pt x="11918" y="7493"/>
                </a:lnTo>
                <a:lnTo>
                  <a:pt x="11918" y="12828"/>
                </a:lnTo>
                <a:cubicBezTo>
                  <a:pt x="11918" y="13751"/>
                  <a:pt x="12719" y="14482"/>
                  <a:pt x="13755" y="14482"/>
                </a:cubicBezTo>
                <a:lnTo>
                  <a:pt x="15417" y="14482"/>
                </a:lnTo>
                <a:cubicBezTo>
                  <a:pt x="16453" y="14482"/>
                  <a:pt x="17254" y="13751"/>
                  <a:pt x="17254" y="12828"/>
                </a:cubicBezTo>
                <a:lnTo>
                  <a:pt x="17254" y="7493"/>
                </a:lnTo>
                <a:lnTo>
                  <a:pt x="15417" y="7493"/>
                </a:lnTo>
                <a:lnTo>
                  <a:pt x="18925" y="3985"/>
                </a:lnTo>
                <a:lnTo>
                  <a:pt x="22598" y="7493"/>
                </a:lnTo>
                <a:lnTo>
                  <a:pt x="20761" y="7493"/>
                </a:lnTo>
                <a:lnTo>
                  <a:pt x="20761" y="12828"/>
                </a:lnTo>
                <a:cubicBezTo>
                  <a:pt x="20761" y="15596"/>
                  <a:pt x="18185" y="18155"/>
                  <a:pt x="15417" y="18155"/>
                </a:cubicBezTo>
                <a:lnTo>
                  <a:pt x="13755" y="18155"/>
                </a:lnTo>
                <a:cubicBezTo>
                  <a:pt x="10987" y="18155"/>
                  <a:pt x="8411" y="15596"/>
                  <a:pt x="8411" y="12828"/>
                </a:cubicBezTo>
                <a:close/>
              </a:path>
            </a:pathLst>
          </a:cu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0" t="0" r="0" b="488"/>
          <a:stretch/>
        </p:blipFill>
        <p:spPr>
          <a:xfrm>
            <a:off x="609480" y="304920"/>
            <a:ext cx="7925040" cy="4776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FBF7-AE16-4A7D-84D0-C2A88FDF12D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0066"/>
                </a:solidFill>
                <a:latin typeface="Arial"/>
              </a:rPr>
              <a:t>Програма</a:t>
            </a:r>
            <a:br>
              <a:rPr sz="2000"/>
            </a:br>
            <a:r>
              <a:rPr b="1" lang="uk-UA" sz="2000" spc="-1" strike="noStrike">
                <a:solidFill>
                  <a:srgbClr val="330066"/>
                </a:solidFill>
                <a:latin typeface="Arial"/>
              </a:rPr>
              <a:t>дистанційного факультативу</a:t>
            </a:r>
            <a:br>
              <a:rPr sz="2000"/>
            </a:br>
            <a:r>
              <a:rPr b="1" lang="uk-UA" sz="20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i="1" lang="uk-UA" sz="2000" spc="-1" strike="noStrike">
                <a:solidFill>
                  <a:srgbClr val="330066"/>
                </a:solidFill>
                <a:latin typeface="Arial"/>
              </a:rPr>
              <a:t>Комп’ютерні технології у наукових дослідженнях</a:t>
            </a:r>
            <a:r>
              <a:rPr b="1" lang="uk-UA" sz="2000" spc="-1" strike="noStrike">
                <a:solidFill>
                  <a:srgbClr val="330066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 (1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828800"/>
          <a:ext cx="8229600" cy="4414680"/>
        </p:xfrm>
        <a:graphic>
          <a:graphicData uri="http://schemas.openxmlformats.org/drawingml/2006/table">
            <a:tbl>
              <a:tblPr/>
              <a:tblGrid>
                <a:gridCol w="685800"/>
                <a:gridCol w="5257800"/>
                <a:gridCol w="228600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 моду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ількість навчальних тижн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3222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клас, 2 семест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туп до курс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аток роботи у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X як засіб візуалізації математичних текстів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творення вираз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бота з графікою в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зв'язування рівнянь та їх систе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лементи програму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ADC7-3210-4329-BDB9-116528816A6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0066"/>
                </a:solidFill>
                <a:latin typeface="Arial"/>
              </a:rPr>
              <a:t>Програма</a:t>
            </a:r>
            <a:br>
              <a:rPr sz="2000"/>
            </a:br>
            <a:r>
              <a:rPr b="1" lang="uk-UA" sz="2000" spc="-1" strike="noStrike">
                <a:solidFill>
                  <a:srgbClr val="330066"/>
                </a:solidFill>
                <a:latin typeface="Arial"/>
              </a:rPr>
              <a:t>дистанційного факультативу</a:t>
            </a:r>
            <a:br>
              <a:rPr sz="2000"/>
            </a:br>
            <a:r>
              <a:rPr b="1" lang="uk-UA" sz="20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i="1" lang="uk-UA" sz="2000" spc="-1" strike="noStrike">
                <a:solidFill>
                  <a:srgbClr val="330066"/>
                </a:solidFill>
                <a:latin typeface="Arial"/>
              </a:rPr>
              <a:t>Комп’ютерні технології у наукових дослідженнях</a:t>
            </a:r>
            <a:r>
              <a:rPr b="1" lang="uk-UA" sz="2000" spc="-1" strike="noStrike">
                <a:solidFill>
                  <a:srgbClr val="330066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 (2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7200" y="1676520"/>
          <a:ext cx="8229600" cy="4049640"/>
        </p:xfrm>
        <a:graphic>
          <a:graphicData uri="http://schemas.openxmlformats.org/drawingml/2006/table">
            <a:tbl>
              <a:tblPr/>
              <a:tblGrid>
                <a:gridCol w="685800"/>
                <a:gridCol w="5257800"/>
                <a:gridCol w="2286000"/>
              </a:tblGrid>
              <a:tr h="108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 моду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ількість навчальних тижн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4935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клас, 1 семест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ії математичного аналіз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ії над векторами та матриц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ференціальні рівня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лементи комбінатор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бота над навчальним проект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8305920" y="61722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8411" y="7493"/>
                </a:moveTo>
                <a:lnTo>
                  <a:pt x="11918" y="7493"/>
                </a:lnTo>
                <a:lnTo>
                  <a:pt x="11918" y="12828"/>
                </a:lnTo>
                <a:cubicBezTo>
                  <a:pt x="11918" y="13751"/>
                  <a:pt x="12719" y="14482"/>
                  <a:pt x="13755" y="14482"/>
                </a:cubicBezTo>
                <a:lnTo>
                  <a:pt x="15417" y="14482"/>
                </a:lnTo>
                <a:cubicBezTo>
                  <a:pt x="16453" y="14482"/>
                  <a:pt x="17254" y="13751"/>
                  <a:pt x="17254" y="12828"/>
                </a:cubicBezTo>
                <a:lnTo>
                  <a:pt x="17254" y="7493"/>
                </a:lnTo>
                <a:lnTo>
                  <a:pt x="15417" y="7493"/>
                </a:lnTo>
                <a:lnTo>
                  <a:pt x="18925" y="3985"/>
                </a:lnTo>
                <a:lnTo>
                  <a:pt x="22598" y="7493"/>
                </a:lnTo>
                <a:lnTo>
                  <a:pt x="20761" y="7493"/>
                </a:lnTo>
                <a:lnTo>
                  <a:pt x="20761" y="12828"/>
                </a:lnTo>
                <a:cubicBezTo>
                  <a:pt x="20761" y="15596"/>
                  <a:pt x="18185" y="18155"/>
                  <a:pt x="15417" y="18155"/>
                </a:cubicBezTo>
                <a:lnTo>
                  <a:pt x="13755" y="18155"/>
                </a:lnTo>
                <a:cubicBezTo>
                  <a:pt x="10987" y="18155"/>
                  <a:pt x="8411" y="15596"/>
                  <a:pt x="8411" y="12828"/>
                </a:cubicBezTo>
                <a:close/>
              </a:path>
            </a:pathLst>
          </a:cu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9A8A-FCC8-416C-B27A-610121AF0B8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51000"/>
            <a:ext cx="693432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Актуальність дослідження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соблива значимість самостійної роботи учнів за  умов переходу від закритого навчального середовища до системи відкритої і неперервної осві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лежність результатів організації самостійної роботи від способів застосування інноваційних інформаційно-комунікаційних технологій, зокрема технологій мережного навч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фективність програмного забезпечення математичного призначення як засобу підтримки навчання математики, фізики та і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розробленість методики мережеорієнтованої моделі навчання програмного забезпечення математичного признач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ідкриття нового класу програмного забезпечення математичного призначення – мережних систем комп’ютерної математики та можливість їх інтеграції з системами дистанційного навчання в єдиному динамічному навчальному середовищі для підтримки учнівських досліджен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04FC-DEE2-4CA1-915D-2FB1CDE6E80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Вибір платформи дистанційного навчання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871280"/>
            <a:ext cx="4343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tus Learning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(IBM,http://www.lotus.com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76440" y="3124080"/>
            <a:ext cx="419112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O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(М. Дугіямас, http://www.moodle.org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1905120"/>
            <a:ext cx="4190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АГАПА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(ТОВ «АВ-Консалтинг», http://www.agapa.com.ua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4691160"/>
            <a:ext cx="41911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еб-клас ХПІ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(НТУ «ХПІ», http://dl.kpi.kharkov.ua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24280" y="4724280"/>
            <a:ext cx="426744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ометей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(НІЦ «АСК», http://www.prometeus.ru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305920" y="61722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8411" y="7493"/>
                </a:moveTo>
                <a:lnTo>
                  <a:pt x="11918" y="7493"/>
                </a:lnTo>
                <a:lnTo>
                  <a:pt x="11918" y="12828"/>
                </a:lnTo>
                <a:cubicBezTo>
                  <a:pt x="11918" y="13751"/>
                  <a:pt x="12719" y="14482"/>
                  <a:pt x="13755" y="14482"/>
                </a:cubicBezTo>
                <a:lnTo>
                  <a:pt x="15417" y="14482"/>
                </a:lnTo>
                <a:cubicBezTo>
                  <a:pt x="16453" y="14482"/>
                  <a:pt x="17254" y="13751"/>
                  <a:pt x="17254" y="12828"/>
                </a:cubicBezTo>
                <a:lnTo>
                  <a:pt x="17254" y="7493"/>
                </a:lnTo>
                <a:lnTo>
                  <a:pt x="15417" y="7493"/>
                </a:lnTo>
                <a:lnTo>
                  <a:pt x="18925" y="3985"/>
                </a:lnTo>
                <a:lnTo>
                  <a:pt x="22598" y="7493"/>
                </a:lnTo>
                <a:lnTo>
                  <a:pt x="20761" y="7493"/>
                </a:lnTo>
                <a:lnTo>
                  <a:pt x="20761" y="12828"/>
                </a:lnTo>
                <a:cubicBezTo>
                  <a:pt x="20761" y="15596"/>
                  <a:pt x="18185" y="18155"/>
                  <a:pt x="15417" y="18155"/>
                </a:cubicBezTo>
                <a:lnTo>
                  <a:pt x="13755" y="18155"/>
                </a:lnTo>
                <a:cubicBezTo>
                  <a:pt x="10987" y="18155"/>
                  <a:pt x="8411" y="15596"/>
                  <a:pt x="8411" y="12828"/>
                </a:cubicBezTo>
                <a:close/>
              </a:path>
            </a:pathLst>
          </a:cu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956C-37BE-40D7-BF80-139276436A9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330066"/>
                </a:solidFill>
                <a:latin typeface="Arial"/>
              </a:rPr>
              <a:t>Характеристики мережних систем комп’ютерної математики (</a:t>
            </a: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Web-</a:t>
            </a:r>
            <a:r>
              <a:rPr b="1" lang="uk-UA" sz="3100" spc="-1" strike="noStrike">
                <a:solidFill>
                  <a:srgbClr val="330066"/>
                </a:solidFill>
                <a:latin typeface="Arial"/>
              </a:rPr>
              <a:t>СКМ)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ідсутність необхідності встановлення обчислювального ядра СКМ на клієнтській машин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иконання обчислень – 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ервері СК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ідображення результатів – у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браузер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невимогливість до апаратної складової обчислювальної систе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індиферентність до використовуваного браузе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ростота адміністрування (зняття проблеми підтримки великої інсталяційної бази та ліцензування програмного забезпеченн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мобільний доступ до навчальних ресурсів, програм і дан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05920" y="61722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8411" y="7493"/>
                </a:moveTo>
                <a:lnTo>
                  <a:pt x="11918" y="7493"/>
                </a:lnTo>
                <a:lnTo>
                  <a:pt x="11918" y="12828"/>
                </a:lnTo>
                <a:cubicBezTo>
                  <a:pt x="11918" y="13751"/>
                  <a:pt x="12719" y="14482"/>
                  <a:pt x="13755" y="14482"/>
                </a:cubicBezTo>
                <a:lnTo>
                  <a:pt x="15417" y="14482"/>
                </a:lnTo>
                <a:cubicBezTo>
                  <a:pt x="16453" y="14482"/>
                  <a:pt x="17254" y="13751"/>
                  <a:pt x="17254" y="12828"/>
                </a:cubicBezTo>
                <a:lnTo>
                  <a:pt x="17254" y="7493"/>
                </a:lnTo>
                <a:lnTo>
                  <a:pt x="15417" y="7493"/>
                </a:lnTo>
                <a:lnTo>
                  <a:pt x="18925" y="3985"/>
                </a:lnTo>
                <a:lnTo>
                  <a:pt x="22598" y="7493"/>
                </a:lnTo>
                <a:lnTo>
                  <a:pt x="20761" y="7493"/>
                </a:lnTo>
                <a:lnTo>
                  <a:pt x="20761" y="12828"/>
                </a:lnTo>
                <a:cubicBezTo>
                  <a:pt x="20761" y="15596"/>
                  <a:pt x="18185" y="18155"/>
                  <a:pt x="15417" y="18155"/>
                </a:cubicBezTo>
                <a:lnTo>
                  <a:pt x="13755" y="18155"/>
                </a:lnTo>
                <a:cubicBezTo>
                  <a:pt x="10987" y="18155"/>
                  <a:pt x="8411" y="15596"/>
                  <a:pt x="8411" y="12828"/>
                </a:cubicBezTo>
                <a:close/>
              </a:path>
            </a:pathLst>
          </a:cu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E7DF-C54B-4679-815F-954239D8E07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Відмінні характеристики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eb</a:t>
            </a: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-СКМ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AG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ідкритість повнофункціонального Web-сервера систе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теграція більше 100 математичних пакетів вузької спеціалізації у єдиному середовищі: PARI, GAP, GSL, Singular, MWRANK, NetworkX, Maxima, Sympy, GMP, Numpy, mathplotlib та і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дтримка інтерфейсів до комерційних систем комп’ютерної математики, таких як – Maple, Magma, Mathematica і Mat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конання на Web-сторінках програм, описаних мовами програмування Python, Lisp, Java та і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рощеність процедури публікації робочих аркушів у мережі Інтер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явність режиму спільної роботи (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collaborate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) з даними певного робочого арку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ідсутність потреби встановлення спеціального програмного забезпечення для подання математичних виразів у звичній математичній нотації (достатньо виконати дозавантаження математичних шрифті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дтримка технологій LaTeX та Wik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5920" y="61722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8411" y="7493"/>
                </a:moveTo>
                <a:lnTo>
                  <a:pt x="11918" y="7493"/>
                </a:lnTo>
                <a:lnTo>
                  <a:pt x="11918" y="12828"/>
                </a:lnTo>
                <a:cubicBezTo>
                  <a:pt x="11918" y="13751"/>
                  <a:pt x="12719" y="14482"/>
                  <a:pt x="13755" y="14482"/>
                </a:cubicBezTo>
                <a:lnTo>
                  <a:pt x="15417" y="14482"/>
                </a:lnTo>
                <a:cubicBezTo>
                  <a:pt x="16453" y="14482"/>
                  <a:pt x="17254" y="13751"/>
                  <a:pt x="17254" y="12828"/>
                </a:cubicBezTo>
                <a:lnTo>
                  <a:pt x="17254" y="7493"/>
                </a:lnTo>
                <a:lnTo>
                  <a:pt x="15417" y="7493"/>
                </a:lnTo>
                <a:lnTo>
                  <a:pt x="18925" y="3985"/>
                </a:lnTo>
                <a:lnTo>
                  <a:pt x="22598" y="7493"/>
                </a:lnTo>
                <a:lnTo>
                  <a:pt x="20761" y="7493"/>
                </a:lnTo>
                <a:lnTo>
                  <a:pt x="20761" y="12828"/>
                </a:lnTo>
                <a:cubicBezTo>
                  <a:pt x="20761" y="15596"/>
                  <a:pt x="18185" y="18155"/>
                  <a:pt x="15417" y="18155"/>
                </a:cubicBezTo>
                <a:lnTo>
                  <a:pt x="13755" y="18155"/>
                </a:lnTo>
                <a:cubicBezTo>
                  <a:pt x="10987" y="18155"/>
                  <a:pt x="8411" y="15596"/>
                  <a:pt x="8411" y="12828"/>
                </a:cubicBezTo>
                <a:close/>
              </a:path>
            </a:pathLst>
          </a:cu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EE89-1FB9-4D6A-88A9-586B2293FB7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33126" t="15893" r="31251" b="5556"/>
          <a:stretch/>
        </p:blipFill>
        <p:spPr>
          <a:xfrm>
            <a:off x="457200" y="685800"/>
            <a:ext cx="4343400" cy="579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4" name=""/>
          <p:cNvSpPr/>
          <p:nvPr/>
        </p:nvSpPr>
        <p:spPr>
          <a:xfrm>
            <a:off x="5029200" y="685800"/>
            <a:ext cx="3733920" cy="34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Шокалюк С. В. Основи роботи в SAGE / За ред. академіка АПН України</a:t>
            </a: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М.І. Жалдака. – К.: НПУ імені М.П. Драго-манова, 2008. – 64 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 посібнику для практичної підготовки наведено короткий огляд основних прийомів роботи у вільно поширюваній Web-системі комп’ютерної математики SAGE, спрямованої на підтримку алгебраїчних та геометричних дослідже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ля широкого кола студентів ВНЗ різного профілю, педагогів, наукових та інженер-них працівників, вчителів та учнів старших класів, які застосовують інформаційні технології математичного призначенн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 rot="1025400">
            <a:off x="4647960" y="4336560"/>
            <a:ext cx="2232000" cy="2140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26" name=""/>
          <p:cNvSpPr/>
          <p:nvPr/>
        </p:nvSpPr>
        <p:spPr>
          <a:xfrm>
            <a:off x="4419720" y="4876920"/>
            <a:ext cx="533160" cy="533160"/>
          </a:xfrm>
          <a:prstGeom prst="plus">
            <a:avLst>
              <a:gd name="adj" fmla="val 38370"/>
            </a:avLst>
          </a:prstGeom>
          <a:gradFill rotWithShape="0">
            <a:gsLst>
              <a:gs pos="0">
                <a:srgbClr val="7e9ce8"/>
              </a:gs>
              <a:gs pos="100000">
                <a:srgbClr val="5e75a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05920" y="61722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8411" y="7493"/>
                </a:moveTo>
                <a:lnTo>
                  <a:pt x="11918" y="7493"/>
                </a:lnTo>
                <a:lnTo>
                  <a:pt x="11918" y="12828"/>
                </a:lnTo>
                <a:cubicBezTo>
                  <a:pt x="11918" y="13751"/>
                  <a:pt x="12719" y="14482"/>
                  <a:pt x="13755" y="14482"/>
                </a:cubicBezTo>
                <a:lnTo>
                  <a:pt x="15417" y="14482"/>
                </a:lnTo>
                <a:cubicBezTo>
                  <a:pt x="16453" y="14482"/>
                  <a:pt x="17254" y="13751"/>
                  <a:pt x="17254" y="12828"/>
                </a:cubicBezTo>
                <a:lnTo>
                  <a:pt x="17254" y="7493"/>
                </a:lnTo>
                <a:lnTo>
                  <a:pt x="15417" y="7493"/>
                </a:lnTo>
                <a:lnTo>
                  <a:pt x="18925" y="3985"/>
                </a:lnTo>
                <a:lnTo>
                  <a:pt x="22598" y="7493"/>
                </a:lnTo>
                <a:lnTo>
                  <a:pt x="20761" y="7493"/>
                </a:lnTo>
                <a:lnTo>
                  <a:pt x="20761" y="12828"/>
                </a:lnTo>
                <a:cubicBezTo>
                  <a:pt x="20761" y="15596"/>
                  <a:pt x="18185" y="18155"/>
                  <a:pt x="15417" y="18155"/>
                </a:cubicBezTo>
                <a:lnTo>
                  <a:pt x="13755" y="18155"/>
                </a:lnTo>
                <a:cubicBezTo>
                  <a:pt x="10987" y="18155"/>
                  <a:pt x="8411" y="15596"/>
                  <a:pt x="8411" y="12828"/>
                </a:cubicBezTo>
                <a:close/>
              </a:path>
            </a:pathLst>
          </a:cu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E78C-E983-4025-B35A-94212C82E56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31840" y="228600"/>
            <a:ext cx="4873680" cy="2946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118040" y="457200"/>
            <a:ext cx="4873680" cy="2946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228600" y="3378240"/>
            <a:ext cx="4873680" cy="2946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4114800" y="3505320"/>
            <a:ext cx="4873680" cy="2946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8305920" y="61722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8411" y="7493"/>
                </a:moveTo>
                <a:lnTo>
                  <a:pt x="11918" y="7493"/>
                </a:lnTo>
                <a:lnTo>
                  <a:pt x="11918" y="12828"/>
                </a:lnTo>
                <a:cubicBezTo>
                  <a:pt x="11918" y="13751"/>
                  <a:pt x="12719" y="14482"/>
                  <a:pt x="13755" y="14482"/>
                </a:cubicBezTo>
                <a:lnTo>
                  <a:pt x="15417" y="14482"/>
                </a:lnTo>
                <a:cubicBezTo>
                  <a:pt x="16453" y="14482"/>
                  <a:pt x="17254" y="13751"/>
                  <a:pt x="17254" y="12828"/>
                </a:cubicBezTo>
                <a:lnTo>
                  <a:pt x="17254" y="7493"/>
                </a:lnTo>
                <a:lnTo>
                  <a:pt x="15417" y="7493"/>
                </a:lnTo>
                <a:lnTo>
                  <a:pt x="18925" y="3985"/>
                </a:lnTo>
                <a:lnTo>
                  <a:pt x="22598" y="7493"/>
                </a:lnTo>
                <a:lnTo>
                  <a:pt x="20761" y="7493"/>
                </a:lnTo>
                <a:lnTo>
                  <a:pt x="20761" y="12828"/>
                </a:lnTo>
                <a:cubicBezTo>
                  <a:pt x="20761" y="15596"/>
                  <a:pt x="18185" y="18155"/>
                  <a:pt x="15417" y="18155"/>
                </a:cubicBezTo>
                <a:lnTo>
                  <a:pt x="13755" y="18155"/>
                </a:lnTo>
                <a:cubicBezTo>
                  <a:pt x="10987" y="18155"/>
                  <a:pt x="8411" y="15596"/>
                  <a:pt x="8411" y="12828"/>
                </a:cubicBezTo>
                <a:close/>
              </a:path>
            </a:pathLst>
          </a:cu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F320-E60A-4C7F-9559-4AB9DCD73E7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>
            <a:lum bright="-2000"/>
          </a:blip>
          <a:stretch/>
        </p:blipFill>
        <p:spPr>
          <a:xfrm>
            <a:off x="762120" y="3429000"/>
            <a:ext cx="5481360" cy="331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4" name="">
            <a:hlinkClick r:id="" action="ppaction://hlinkshowjump?jump=lastslide"/>
          </p:cNvPr>
          <p:cNvSpPr/>
          <p:nvPr/>
        </p:nvSpPr>
        <p:spPr>
          <a:xfrm>
            <a:off x="8305920" y="61722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8411" y="7493"/>
                </a:moveTo>
                <a:lnTo>
                  <a:pt x="11918" y="7493"/>
                </a:lnTo>
                <a:lnTo>
                  <a:pt x="11918" y="12828"/>
                </a:lnTo>
                <a:cubicBezTo>
                  <a:pt x="11918" y="13751"/>
                  <a:pt x="12719" y="14482"/>
                  <a:pt x="13755" y="14482"/>
                </a:cubicBezTo>
                <a:lnTo>
                  <a:pt x="15417" y="14482"/>
                </a:lnTo>
                <a:cubicBezTo>
                  <a:pt x="16453" y="14482"/>
                  <a:pt x="17254" y="13751"/>
                  <a:pt x="17254" y="12828"/>
                </a:cubicBezTo>
                <a:lnTo>
                  <a:pt x="17254" y="7493"/>
                </a:lnTo>
                <a:lnTo>
                  <a:pt x="15417" y="7493"/>
                </a:lnTo>
                <a:lnTo>
                  <a:pt x="18925" y="3985"/>
                </a:lnTo>
                <a:lnTo>
                  <a:pt x="22598" y="7493"/>
                </a:lnTo>
                <a:lnTo>
                  <a:pt x="20761" y="7493"/>
                </a:lnTo>
                <a:lnTo>
                  <a:pt x="20761" y="12828"/>
                </a:lnTo>
                <a:cubicBezTo>
                  <a:pt x="20761" y="15596"/>
                  <a:pt x="18185" y="18155"/>
                  <a:pt x="15417" y="18155"/>
                </a:cubicBezTo>
                <a:lnTo>
                  <a:pt x="13755" y="18155"/>
                </a:lnTo>
                <a:cubicBezTo>
                  <a:pt x="10987" y="18155"/>
                  <a:pt x="8411" y="15596"/>
                  <a:pt x="8411" y="12828"/>
                </a:cubicBezTo>
                <a:close/>
              </a:path>
            </a:pathLst>
          </a:cu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5495760" cy="3324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586320" y="1182600"/>
            <a:ext cx="5481360" cy="331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47F4-5BB3-478A-AAA0-16573885479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305920" y="61722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8411" y="7493"/>
                </a:moveTo>
                <a:lnTo>
                  <a:pt x="11918" y="7493"/>
                </a:lnTo>
                <a:lnTo>
                  <a:pt x="11918" y="12828"/>
                </a:lnTo>
                <a:cubicBezTo>
                  <a:pt x="11918" y="13751"/>
                  <a:pt x="12719" y="14482"/>
                  <a:pt x="13755" y="14482"/>
                </a:cubicBezTo>
                <a:lnTo>
                  <a:pt x="15417" y="14482"/>
                </a:lnTo>
                <a:cubicBezTo>
                  <a:pt x="16453" y="14482"/>
                  <a:pt x="17254" y="13751"/>
                  <a:pt x="17254" y="12828"/>
                </a:cubicBezTo>
                <a:lnTo>
                  <a:pt x="17254" y="7493"/>
                </a:lnTo>
                <a:lnTo>
                  <a:pt x="15417" y="7493"/>
                </a:lnTo>
                <a:lnTo>
                  <a:pt x="18925" y="3985"/>
                </a:lnTo>
                <a:lnTo>
                  <a:pt x="22598" y="7493"/>
                </a:lnTo>
                <a:lnTo>
                  <a:pt x="20761" y="7493"/>
                </a:lnTo>
                <a:lnTo>
                  <a:pt x="20761" y="12828"/>
                </a:lnTo>
                <a:cubicBezTo>
                  <a:pt x="20761" y="15596"/>
                  <a:pt x="18185" y="18155"/>
                  <a:pt x="15417" y="18155"/>
                </a:cubicBezTo>
                <a:lnTo>
                  <a:pt x="13755" y="18155"/>
                </a:lnTo>
                <a:cubicBezTo>
                  <a:pt x="10987" y="18155"/>
                  <a:pt x="8411" y="15596"/>
                  <a:pt x="8411" y="12828"/>
                </a:cubicBezTo>
                <a:close/>
              </a:path>
            </a:pathLst>
          </a:cu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5697720" cy="42735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114800" y="228600"/>
            <a:ext cx="4191120" cy="3792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1E15-83D5-4B13-8FF4-51A52A3B05F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8305920" y="61722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8411" y="7493"/>
                </a:moveTo>
                <a:lnTo>
                  <a:pt x="11918" y="7493"/>
                </a:lnTo>
                <a:lnTo>
                  <a:pt x="11918" y="12828"/>
                </a:lnTo>
                <a:cubicBezTo>
                  <a:pt x="11918" y="13751"/>
                  <a:pt x="12719" y="14482"/>
                  <a:pt x="13755" y="14482"/>
                </a:cubicBezTo>
                <a:lnTo>
                  <a:pt x="15417" y="14482"/>
                </a:lnTo>
                <a:cubicBezTo>
                  <a:pt x="16453" y="14482"/>
                  <a:pt x="17254" y="13751"/>
                  <a:pt x="17254" y="12828"/>
                </a:cubicBezTo>
                <a:lnTo>
                  <a:pt x="17254" y="7493"/>
                </a:lnTo>
                <a:lnTo>
                  <a:pt x="15417" y="7493"/>
                </a:lnTo>
                <a:lnTo>
                  <a:pt x="18925" y="3985"/>
                </a:lnTo>
                <a:lnTo>
                  <a:pt x="22598" y="7493"/>
                </a:lnTo>
                <a:lnTo>
                  <a:pt x="20761" y="7493"/>
                </a:lnTo>
                <a:lnTo>
                  <a:pt x="20761" y="12828"/>
                </a:lnTo>
                <a:cubicBezTo>
                  <a:pt x="20761" y="15596"/>
                  <a:pt x="18185" y="18155"/>
                  <a:pt x="15417" y="18155"/>
                </a:cubicBezTo>
                <a:lnTo>
                  <a:pt x="13755" y="18155"/>
                </a:lnTo>
                <a:cubicBezTo>
                  <a:pt x="10987" y="18155"/>
                  <a:pt x="8411" y="15596"/>
                  <a:pt x="8411" y="12828"/>
                </a:cubicBezTo>
                <a:close/>
              </a:path>
            </a:pathLst>
          </a:cu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296" t="24553" r="6660" b="5777"/>
          <a:stretch/>
        </p:blipFill>
        <p:spPr>
          <a:xfrm>
            <a:off x="152280" y="228600"/>
            <a:ext cx="7925040" cy="2187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2"/>
          <a:srcRect l="296" t="18237" r="6873" b="10568"/>
          <a:stretch/>
        </p:blipFill>
        <p:spPr>
          <a:xfrm>
            <a:off x="1015920" y="2438280"/>
            <a:ext cx="7900920" cy="2971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3"/>
          <a:srcRect l="296" t="29665" r="5954" b="6266"/>
          <a:stretch/>
        </p:blipFill>
        <p:spPr>
          <a:xfrm>
            <a:off x="177840" y="5181480"/>
            <a:ext cx="7975440" cy="1648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91CF-4D3E-4BD5-9525-1DBA5D5B14C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Тематика</a:t>
            </a:r>
            <a:br>
              <a:rPr sz="3500"/>
            </a:b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дослідницьких проектів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(1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80880" y="2090880"/>
          <a:ext cx="8229600" cy="3303360"/>
        </p:xfrm>
        <a:graphic>
          <a:graphicData uri="http://schemas.openxmlformats.org/drawingml/2006/table">
            <a:tbl>
              <a:tblPr/>
              <a:tblGrid>
                <a:gridCol w="500040"/>
                <a:gridCol w="77295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обка програми для демонстрації виконання операцій перетворення вираз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обка програми для демонстрації методів наближених обчислень визначеного інтегралу у середовищі 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обка програми для демонстрації фігур Ліссажу засобам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обка наочностей з теми «Границя функції і неперервність функції. Точки розриву, їх класифікаці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зація досліджень і побудови графіків циклоїдальних крив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обка програми для демонстрації пошуку наближених значень коренів трансцендентних рівня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4602-EF4F-4EF7-A2B8-552AB867D70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Тематика</a:t>
            </a:r>
            <a:br>
              <a:rPr sz="3500"/>
            </a:b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дослідницьких проектів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(2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57200" y="2090880"/>
          <a:ext cx="8229600" cy="3303360"/>
        </p:xfrm>
        <a:graphic>
          <a:graphicData uri="http://schemas.openxmlformats.org/drawingml/2006/table">
            <a:tbl>
              <a:tblPr/>
              <a:tblGrid>
                <a:gridCol w="609480"/>
                <a:gridCol w="7620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обка власної бібліотеки комбінаторних функцій засобам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обка програми для демонстрації для розв’язування комбінаторних задач у середовищі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в’язування геометричних задач засобам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Gebra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у середовищі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в’язування геометричних задач засобам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Geometer’s Sketchpad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у середовищі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будова фрактальних об’єктів засобами пакет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ima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середовищі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b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КМ 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в’язування задач апроксимації засобам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ple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hematica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у середовищі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"/>
          <p:cNvSpPr/>
          <p:nvPr/>
        </p:nvSpPr>
        <p:spPr>
          <a:xfrm>
            <a:off x="8305920" y="61722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8411" y="7493"/>
                </a:moveTo>
                <a:lnTo>
                  <a:pt x="11918" y="7493"/>
                </a:lnTo>
                <a:lnTo>
                  <a:pt x="11918" y="12828"/>
                </a:lnTo>
                <a:cubicBezTo>
                  <a:pt x="11918" y="13751"/>
                  <a:pt x="12719" y="14482"/>
                  <a:pt x="13755" y="14482"/>
                </a:cubicBezTo>
                <a:lnTo>
                  <a:pt x="15417" y="14482"/>
                </a:lnTo>
                <a:cubicBezTo>
                  <a:pt x="16453" y="14482"/>
                  <a:pt x="17254" y="13751"/>
                  <a:pt x="17254" y="12828"/>
                </a:cubicBezTo>
                <a:lnTo>
                  <a:pt x="17254" y="7493"/>
                </a:lnTo>
                <a:lnTo>
                  <a:pt x="15417" y="7493"/>
                </a:lnTo>
                <a:lnTo>
                  <a:pt x="18925" y="3985"/>
                </a:lnTo>
                <a:lnTo>
                  <a:pt x="22598" y="7493"/>
                </a:lnTo>
                <a:lnTo>
                  <a:pt x="20761" y="7493"/>
                </a:lnTo>
                <a:lnTo>
                  <a:pt x="20761" y="12828"/>
                </a:lnTo>
                <a:cubicBezTo>
                  <a:pt x="20761" y="15596"/>
                  <a:pt x="18185" y="18155"/>
                  <a:pt x="15417" y="18155"/>
                </a:cubicBezTo>
                <a:lnTo>
                  <a:pt x="13755" y="18155"/>
                </a:lnTo>
                <a:cubicBezTo>
                  <a:pt x="10987" y="18155"/>
                  <a:pt x="8411" y="15596"/>
                  <a:pt x="8411" y="12828"/>
                </a:cubicBezTo>
                <a:close/>
              </a:path>
            </a:pathLst>
          </a:cu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E8D3-D186-432B-A0BC-323DCAAAE58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Мета дослідженн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2640" y="1719360"/>
            <a:ext cx="67057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еоретичне обґрунтування та розробка окремих компонентів комп’ютерно-орієнтованої методики самостійної роботи з вивчення сучасних мережних технологій математичного призначення в старших класах загальноосвітніх шкі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A44E-796F-4867-80A0-206541044A5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Фрагмент реалізації проекту</a:t>
            </a:r>
            <a:br>
              <a:rPr sz="2400"/>
            </a:b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i="1" lang="uk-UA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Розробка програми для демонстрації методів наближених обчислень визначеного інтегралу</a:t>
            </a: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523880" y="1719360"/>
            <a:ext cx="6024600" cy="491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3FFE-D63F-49BD-B7DD-2F5DE087C38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Фрагмент реалізації проекту</a:t>
            </a:r>
            <a:br>
              <a:rPr sz="2400"/>
            </a:b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i="1" lang="uk-UA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Розробка програми для демонстрації</a:t>
            </a:r>
            <a:br>
              <a:rPr sz="2400"/>
            </a:br>
            <a:r>
              <a:rPr b="1" i="1" lang="uk-UA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пошуку наближених значень</a:t>
            </a:r>
            <a:br>
              <a:rPr sz="2400"/>
            </a:br>
            <a:r>
              <a:rPr b="1" i="1" lang="uk-UA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коренів трансцендентних рівнянь</a:t>
            </a:r>
            <a:r>
              <a:rPr b="1" lang="uk-UA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”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698480" y="1582560"/>
            <a:ext cx="5769000" cy="512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20A7-18D7-42CE-AFDE-7D80BBCE345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2120" y="1224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Фрагмент реалізації проекту</a:t>
            </a:r>
            <a:br>
              <a:rPr sz="24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i="1" lang="uk-UA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Розв’язування задач апроксимації засобами </a:t>
            </a:r>
            <a:r>
              <a:rPr b="1" i="1" lang="en-US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Maple</a:t>
            </a:r>
            <a:r>
              <a:rPr b="1" i="1" lang="uk-UA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 та </a:t>
            </a:r>
            <a:r>
              <a:rPr b="1" i="1" lang="en-US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Mathematica</a:t>
            </a:r>
            <a:r>
              <a:rPr b="1" i="1" lang="uk-UA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 у середовищі </a:t>
            </a:r>
            <a:r>
              <a:rPr b="1" i="1" lang="en-US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SAGE</a:t>
            </a:r>
            <a:r>
              <a:rPr b="1" lang="uk-UA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”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0" r="0" b="26857"/>
          <a:stretch/>
        </p:blipFill>
        <p:spPr>
          <a:xfrm>
            <a:off x="237960" y="1981080"/>
            <a:ext cx="6924960" cy="3429000"/>
          </a:xfrm>
          <a:prstGeom prst="rect">
            <a:avLst/>
          </a:prstGeom>
          <a:ln w="0">
            <a:noFill/>
          </a:ln>
        </p:spPr>
      </p:pic>
      <p:grpSp>
        <p:nvGrpSpPr>
          <p:cNvPr id="255" name=""/>
          <p:cNvGrpSpPr/>
          <p:nvPr/>
        </p:nvGrpSpPr>
        <p:grpSpPr>
          <a:xfrm>
            <a:off x="4343400" y="1447920"/>
            <a:ext cx="4343040" cy="4619160"/>
            <a:chOff x="4343400" y="1447920"/>
            <a:chExt cx="4343040" cy="4619160"/>
          </a:xfrm>
        </p:grpSpPr>
        <p:pic>
          <p:nvPicPr>
            <p:cNvPr id="256" name="" descr=""/>
            <p:cNvPicPr/>
            <p:nvPr/>
          </p:nvPicPr>
          <p:blipFill>
            <a:blip r:embed="rId2">
              <a:lum contrast="30000"/>
            </a:blip>
            <a:srcRect l="0" t="0" r="1851" b="33244"/>
            <a:stretch/>
          </p:blipFill>
          <p:spPr>
            <a:xfrm>
              <a:off x="4343400" y="1447920"/>
              <a:ext cx="4343040" cy="215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3"/>
            <a:srcRect l="0" t="16012" r="1851" b="7432"/>
            <a:stretch/>
          </p:blipFill>
          <p:spPr>
            <a:xfrm>
              <a:off x="4343400" y="3599640"/>
              <a:ext cx="4343040" cy="246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"/>
          <p:cNvSpPr/>
          <p:nvPr/>
        </p:nvSpPr>
        <p:spPr>
          <a:xfrm>
            <a:off x="0" y="8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3449-397A-4BA5-853F-82C86BE703B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2120" y="1224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Фрагмент реалізації проекту</a:t>
            </a:r>
            <a:br>
              <a:rPr sz="2400"/>
            </a:b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i="1" lang="uk-UA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Розв’язування геометричних задач</a:t>
            </a:r>
            <a:br>
              <a:rPr sz="2400"/>
            </a:br>
            <a:r>
              <a:rPr b="1" i="1" lang="uk-UA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засобами </a:t>
            </a:r>
            <a:r>
              <a:rPr b="1" i="1" lang="en-US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GeoGebra</a:t>
            </a:r>
            <a:r>
              <a:rPr b="1" i="1" lang="uk-UA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 у середовищі </a:t>
            </a:r>
            <a:r>
              <a:rPr b="1" i="1" lang="en-US" sz="2400" spc="-1" strike="noStrike">
                <a:solidFill>
                  <a:srgbClr val="330066"/>
                </a:solidFill>
                <a:latin typeface="Arial"/>
                <a:ea typeface="Times New Roman"/>
              </a:rPr>
              <a:t>SAGE</a:t>
            </a:r>
            <a:r>
              <a:rPr b="1" lang="uk-UA" sz="2400" spc="-1" strike="noStrike">
                <a:solidFill>
                  <a:srgbClr val="330066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305920" y="61722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8411" y="7493"/>
                </a:moveTo>
                <a:lnTo>
                  <a:pt x="11918" y="7493"/>
                </a:lnTo>
                <a:lnTo>
                  <a:pt x="11918" y="12828"/>
                </a:lnTo>
                <a:cubicBezTo>
                  <a:pt x="11918" y="13751"/>
                  <a:pt x="12719" y="14482"/>
                  <a:pt x="13755" y="14482"/>
                </a:cubicBezTo>
                <a:lnTo>
                  <a:pt x="15417" y="14482"/>
                </a:lnTo>
                <a:cubicBezTo>
                  <a:pt x="16453" y="14482"/>
                  <a:pt x="17254" y="13751"/>
                  <a:pt x="17254" y="12828"/>
                </a:cubicBezTo>
                <a:lnTo>
                  <a:pt x="17254" y="7493"/>
                </a:lnTo>
                <a:lnTo>
                  <a:pt x="15417" y="7493"/>
                </a:lnTo>
                <a:lnTo>
                  <a:pt x="18925" y="3985"/>
                </a:lnTo>
                <a:lnTo>
                  <a:pt x="22598" y="7493"/>
                </a:lnTo>
                <a:lnTo>
                  <a:pt x="20761" y="7493"/>
                </a:lnTo>
                <a:lnTo>
                  <a:pt x="20761" y="12828"/>
                </a:lnTo>
                <a:cubicBezTo>
                  <a:pt x="20761" y="15596"/>
                  <a:pt x="18185" y="18155"/>
                  <a:pt x="15417" y="18155"/>
                </a:cubicBezTo>
                <a:lnTo>
                  <a:pt x="13755" y="18155"/>
                </a:lnTo>
                <a:cubicBezTo>
                  <a:pt x="10987" y="18155"/>
                  <a:pt x="8411" y="15596"/>
                  <a:pt x="8411" y="12828"/>
                </a:cubicBezTo>
                <a:close/>
              </a:path>
            </a:pathLst>
          </a:cu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141560" y="1512720"/>
            <a:ext cx="6859440" cy="534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98A-7E45-4FE3-A9B9-90481CD6C2D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182160"/>
            <a:ext cx="69343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Педагогічний експеримент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вдання констатувального етапу (2002-2004 р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. Проаналізувати науково-методичну літературу з проблеми дослідження, навчальні програми, підручники і посібники, визначити основні аспекти проблеми дослі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. З’ясувати характер і причини утруднень, що виникають при організації самостійної роботи (шляхом анкетування учнів та вчителі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3. Встановити: 1) рівень навчальних досягнень учнів з розділу “Прикладне програмне забезпечення навчального призначення”; 2) рівень застосування засобів СКМ у процесі формування навичок самостійної дослідницької діяльності учні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вдання пошукового етапу (2004-2007 р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. Проаналізувати програмно-апаратне забезпечення для підтримки математичних дослідж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. Дослідити можливості застосування мережних систем комп’ютерної математики для навчання програмного математичного призначення за дистанційною формо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3. Розробити програмно-методичне забезпечення дистанційного факультативу «Комп’ютерні технології у наукових дослідженнях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вдання формувального етапу (2007-2009 р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  Створити сервер дистанційного навчанн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ttp://cc.ninehub.com)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  Впровадити і перевірити ефективність окремих компонентів методичної системи дистанційного навчання програмного забезпечення математичного признач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3FCB-CBEB-400C-99C8-8CFA8666DD4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Висновки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(1</a:t>
            </a: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-2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сучасному етапі розвитку освітніх технологій організація позаурочної самостійної роботи з інформатики із залученням мережних інформаційно-комунікаційних технологій повинна включати елементи одного з видів комп’ютерної технології навчання, а саме дистанційного, електронного чи мобільного, які поступово набувають поширення у вітчизняній системі осві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значальною особливістю сучасних систем дистанційного навчання є те, що за відповідного методичного забезпечення вони стають динамічними навчальними середовищами, що можуть бути використані для підтримки різних форм організації навчання. Перспективним є інтеграція традиційних та інноваційних педагогічних технологій, зокрема, через застосування засобів дистанційного навчання у вузівській аудиторній і шкільній класно-урочній формах організації навчального процесу та впровадження елементів мобільного навчанн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A87F-D856-45FA-A10B-2ECC9FC5162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Висновки (3-5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3. 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провадження систем комп’ютерної математики в навчальний процес сприяє інтеграції інформатики та математики, а їх вивчення і застосування в учнівських дослідженнях сприяє поглибленню інформатичної та математичної компетентностей учн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4. 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сновним напрямом розробки методики організації позаурочної самостійної роботи учнів з опанування програмного забезпечення математичного призначення з використанням засобів технологій дистанційного навчання є об’єднання систем дистанційного навчання та комп’ютерної математики у єдиному діяльнісному середовищі для навчальних учнівських дослідж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5. 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спішна організація самостійної роботи з опанування можливостей програмного забезпечення математичного призначення засобами технологій дистанційного навчання стала можливою завдяки застосуванню Web-СКМ, що дозволило розв’язати проблеми підтримки інсталяційної бази та ліцензійної чистоти використовуваних програмних продукт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E4ED-870F-4CA1-93CA-75BFF940CED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Висновки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(</a:t>
            </a: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6-7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6. 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стосування вільно поширюваної кросплатформенної Web-СКМ SAGE при вивченні програмного забезпечення математичного призначення дозволяє сформувати уміння та засоби підтримки інтелектуальної професійної діяльності майбутніх фахівців у галузі інформаційних технологі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7. 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провадження мережеорієнтованого підходу в навчальний процес впливає на методичну систему навчання програмного забезпечення математичного призначення на всіх її рівн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 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рівні цілей навчання – з’являється мета вивчення програмного забезпечення математичного призначення як засобу реалізації прикладних задач алгебри та геометрії і необхідної основи розділу «Моделювання» шкільного курсу інформат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 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рівні змісту навчання – виникає потреба якісної перебудови усього розділу «Прикладне програмне забезпечення навчального призначення» шкільного курсу інформат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812C-37D8-4B89-8574-BD86FB70154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Висновки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(</a:t>
            </a: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7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363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 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рівні методів навчання – дозволяє ширше застосовувати продуктивні, розвиваючі методи навчання дослідницького характе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 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рівні засобів навчання – виникає можливість застосування мережних систем комп’ютерної математики та систем дистанційного навчання, таких як об’єктно-орієнтовані Web-СКМ SAGE та СДН MOOD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 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рівні організаційних форм – впровадження таких прогресивних форм навчання, як групова та індивідуально-диференційована та поява нових форм, специфічних для дистанційного навч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FCBE-A8CA-4AE6-AEFE-A8C9CF481E0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Напрями подальших досліджень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вчення можливостей мережеорієнтованої моделі навчання прикладного програмного забезпечення загального признач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слідження можливостей застосування Web-СКМ для підтримки курсів математики у школах та вищих навчальних закла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еренесення засобів навчального призначення у Web-середов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обка середовища для мобільного навч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FA98-4AA8-4970-9FDF-D4BCB9B5EEF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655200"/>
            <a:ext cx="6934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Завдання дослідження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 Розробити методичні засади організації позаурочної самостійної роботи учнів у процесі вивчення програмного забезпечення математичного признач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 Дослідити можливості застосування мережних систем комп’ютерної математики для навчання програмного математичного призначення з використанням засобів  технологій дистанційного навч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1148-8C97-46B1-B93D-93845A1B96B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2840040" cy="2130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751600">
            <a:off x="380520" y="628560"/>
            <a:ext cx="2819520" cy="2114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864600">
            <a:off x="5943600" y="2819520"/>
            <a:ext cx="2835360" cy="2125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 rot="1289400">
            <a:off x="367920" y="4047840"/>
            <a:ext cx="2832120" cy="2124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78" name=""/>
          <p:cNvSpPr txBox="1"/>
          <p:nvPr/>
        </p:nvSpPr>
        <p:spPr>
          <a:xfrm>
            <a:off x="3886200" y="1143000"/>
            <a:ext cx="4648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0066"/>
                  </a:solidFill>
                  <a:miter/>
                </a:ln>
                <a:solidFill>
                  <a:srgbClr val="008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якую за увагу!</a:t>
            </a:r>
            <a:endParaRPr b="0" lang="en-US" sz="1800" spc="1" strike="noStrike">
              <a:ln w="12600">
                <a:solidFill>
                  <a:srgbClr val="330066"/>
                </a:solidFill>
                <a:miter/>
              </a:ln>
              <a:solidFill>
                <a:srgbClr val="008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 rot="20952600">
            <a:off x="4327560" y="4350960"/>
            <a:ext cx="2835360" cy="212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6D01-ED7E-45B1-8A97-D96E8A718DC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 flipV="1">
            <a:off x="6172200" y="2895120"/>
            <a:ext cx="1676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34320" y="44197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3657600"/>
            <a:ext cx="2438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380880"/>
            <a:ext cx="27432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Зміс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ограма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истанційного факультатив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3886200"/>
            <a:ext cx="27432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Організаційні фор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истанційний факультати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562720" y="3886200"/>
            <a:ext cx="274320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Засоб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53080" y="1828800"/>
            <a:ext cx="2362320" cy="1676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Метод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бота з навчальними ресурсами у С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в’язування задач у середовищі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вчальне проекту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599840" y="3657600"/>
            <a:ext cx="1981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2133720" y="190476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72000" y="1523880"/>
            <a:ext cx="13716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71800" y="2514600"/>
            <a:ext cx="3200400" cy="1219320"/>
          </a:xfrm>
          <a:prstGeom prst="rect">
            <a:avLst/>
          </a:prstGeom>
          <a:solidFill>
            <a:srgbClr val="d8d8e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Методика організації самостійної роботи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 опанування програмного забезпечення математичного признач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304920"/>
            <a:ext cx="2743200" cy="2057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Ме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оглиблене вивчення розділу “Прикладне програмне забезпечення навчального призначення” шкільного курсу інформатики засобами діяльнісного середовища для алгебраїчних та геометричних досліджень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09680" y="4419720"/>
            <a:ext cx="4724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5181120" y="4419720"/>
            <a:ext cx="17528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334120"/>
            <a:ext cx="251460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Інструментальні засоб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ДН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O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СКМ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4952880"/>
            <a:ext cx="2361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Методичні засоб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нструктивно-методичні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атеріа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ритерії оціню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4800600"/>
            <a:ext cx="327672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идактичні засоб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вчальний посіб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нспекти дистанційних урок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вдання для практичного викон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ідеододат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естові завд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B11F-6555-4D3F-9281-24B1F4EA6D43}" type="slidenum">
              <a:t>41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655200"/>
            <a:ext cx="69343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Завдання дослідження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 Розробити окремі компоненти методичної системи навчання розділу “Прикладне програмне забезпечення навчального призначення” шкільного курсу інформатики за допомогою мережних систем комп’ютерної математики та програмно-методичне забезпечення дистанційного факультативу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«Комп’ютерні технології у наукових дослідженнях»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для підтримки самостійної роботи учнів у мережних системах комп’ютерної математ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 Експериментально перевірити ефективність організації позаурочної самостійної роботи учнів у процесі вивчення програмного забезпечення математичного призначення у формі дистанційного факультатив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A1F5-B3BB-4C21-9AD0-6BD575B9F91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Об’єкт дослідження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566360"/>
            <a:ext cx="807696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амостійна робота з інформатики учнів старших клас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2438280"/>
            <a:ext cx="6934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Предмет дослідження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3809880"/>
            <a:ext cx="78483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етодика організації позаурочної самостійної роботи учнів старших класів загальноосвітніх шкіл з опанування мережного програмного забезпечення математичного призначення засобами технологій дистанційного навч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81C9-2537-4876-97AD-B3AF7E3685F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Наукова новизна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дослідженн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вперше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теоретично та експериментально обґрунтовані окремі компоненти методики організації самостійної роботи учнів з вивчення мережного програмного забезпечення математичного призначення засобами технологій дистанційного навч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уточнено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міст навчального матеріалу розділу «Прикладне програмне забезпечення навчального призначення» шкільного курсу інформатики, опанування яким сприяє формуванню навичок самостійної дослідницької роботи з використанням систем комп’ютерної математ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набули подальшого розвитку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методичні основи застосування технологій дистанційного навчання старшокласни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21B7-33F5-4DB8-AC44-434114D3DA5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Практичне значення</a:t>
            </a:r>
            <a:br>
              <a:rPr sz="3900"/>
            </a:b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дослідження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1. 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бґрунтовано вірогідність припущення про те, що об’єднання систем дистанційного навчання та комп’ютерної математики у єдиному діяльнісному середовищі для підтримки учнівських навчальних досліджень та його систематичне і цілеспрямоване використання у процесі вивчення програмного забезпечення математичного призначення сприяє підвищенню інформатичної і математичної культури учнів та рівня їхніх навчальних досягнень учнів, формуванню навичок дослідницької діяльності з використанням систем комп’ютерної математ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2. 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озроблено окремі компоненти методичної системи управління позаурочною самостійною роботою учнів з вивчення мережних технологій математичного призначення засобами технологій дистанційного навчання в старших класах загальноосвітніх шкі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416B-2306-4A08-A531-7E6D5E74EAF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1224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Практичне значення дослідження (2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 Розроблено і впроваджено в навчальний процес програмно-методичний комплекс навчального призначення, реалізований у вигляді електронного посібника, що містить теоретичні положення, систему демонстраційних прикладів, відеоуроки та засоби для генерування математичних текстів в системі дистанційного навчання MOOD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 Розроблено дистанційний факультатив «Комп’ютерні технології у наукових дослідженнях» для учнів старших класів загальноосвітніх навчальних закладів на основі платформи дистанційного навчання MOODLE та мережної системи комп’ютерної математики SA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 Розробка висунутих теоретичних положень доведена до практичної реалізації у вигляді посібника для практичної підготовки та дистанційного кур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9B53-B092-4AAA-B7C1-83476D9F5E2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vetlana</cp:lastModifiedBy>
  <dcterms:modified xsi:type="dcterms:W3CDTF">2009-10-15T13:09:06Z</dcterms:modified>
  <cp:revision>4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